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7CD-963F-4FD6-9B56-AEEDED30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E6B-C93F-41A8-920B-C7B4A855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9BE-B1D6-431D-BE52-74B7BC5D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20D-3DA4-40B6-BCA2-432D7FA8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9764-E570-4B6A-8A3F-58956956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BE78-D12B-4AB5-BCBD-C3331215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D1CE-F377-4A34-AB11-9F3CE7AD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35BA-984B-4E48-9ECB-FD038FDB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6E72-DBFC-49C8-BDA7-2A4D733D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893F-2CCE-4041-982D-5733BC8A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2923-20C0-4949-A0B7-98119A33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445-740B-42C2-A7FD-4905D138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C48B-2C21-4E05-A26E-AE96B19A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5AE9-70D4-4482-9500-3BF2D041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4DD2-1838-46EB-81C6-5F5E3D4D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4306-C766-4982-91B2-A283B97D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F5EB-5CB9-482D-9181-780626D6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301-810E-4E8A-B470-81DDBCE3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AEC-6817-44BB-A49C-E492BB31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2A0-86E9-49AE-AB1B-E157AD94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9B2-8E88-4E28-B4A7-C9837795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328-8497-4046-809F-4299C182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AE6-F104-4F32-8FDA-463CCD92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B80-B6B8-4178-9103-889DBAE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8B7F-18AD-4442-A488-95796C7B9D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7D81-181F-43D2-BC4D-4DF9894E90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arl_bernstein_2007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rkFelt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atergat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s June 17, 1972 and ends with the resignation of the president Aug 9,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ixon wins the election by a landslide – break-in unnecessary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3127" t="9376" r="0" b="6251"/>
          <a:stretch/>
        </p:blipFill>
        <p:spPr>
          <a:xfrm>
            <a:off x="990720" y="1600200"/>
            <a:ext cx="75438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over-Up Unrav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Dean testif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ed Pres. Nixon and the Attorney General John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er Butterfield reveals that conversations in oval office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 refuses to hand over tapes base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utive privil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 protect national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butterfield" descr="Alexander Butterfield"/>
          <p:cNvPicPr/>
          <p:nvPr/>
        </p:nvPicPr>
        <p:blipFill>
          <a:blip r:embed="rId1"/>
          <a:stretch/>
        </p:blipFill>
        <p:spPr>
          <a:xfrm>
            <a:off x="5181480" y="4038480"/>
            <a:ext cx="3638520" cy="2562480"/>
          </a:xfrm>
          <a:prstGeom prst="rect">
            <a:avLst/>
          </a:prstGeom>
          <a:ln w="0">
            <a:noFill/>
          </a:ln>
        </p:spPr>
      </p:pic>
      <p:pic>
        <p:nvPicPr>
          <p:cNvPr id="142" name="john-dean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aturday Night Massacre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’t attorney appointed by president to handle Watergate cases (Oct. ’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Nixon to court to release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 wants him fired; no one wants to fire him so they (2) resign; eventually gets fire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day Night Massac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’s reputation dam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 ’73 V.P. Spiro Agnew resigns for taking bribes as gov. of MD.= Gerald Ford new 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bald C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ros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129360" y="0"/>
            <a:ext cx="360" cy="360"/>
            <a:chOff x="6129360" y="0"/>
            <a:chExt cx="360" cy="360"/>
          </a:xfrm>
        </p:grpSpPr>
        <p:sp>
          <p:nvSpPr>
            <p:cNvPr id="147" name=""/>
            <p:cNvSpPr/>
            <p:nvPr/>
          </p:nvSpPr>
          <p:spPr>
            <a:xfrm>
              <a:off x="6129360" y="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29360" y="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28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a999archibaldcox_2050081722-23125" descr="Archibald Cox."/>
          <p:cNvPicPr/>
          <p:nvPr/>
        </p:nvPicPr>
        <p:blipFill>
          <a:blip r:embed="rId1"/>
          <a:stretch/>
        </p:blipFill>
        <p:spPr>
          <a:xfrm>
            <a:off x="5181480" y="16765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. R. Haldem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right hand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3600" y="0"/>
            <a:ext cx="1760400" cy="2846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H. R. Haldeman"/>
          <p:cNvPicPr/>
          <p:nvPr/>
        </p:nvPicPr>
        <p:blipFill>
          <a:blip r:embed="rId2"/>
          <a:stretch/>
        </p:blipFill>
        <p:spPr>
          <a:xfrm>
            <a:off x="4419720" y="2362320"/>
            <a:ext cx="298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eachment Procee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s finally turned over and show evidence that Nixon was involve in cov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Judiciary Committee vot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harge with a crime-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 resigns before imp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Ford new president Aug 9,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fordportrait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988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esident Nixon’s Last Da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File:Nixon-depart.png"/>
          <p:cNvPicPr/>
          <p:nvPr/>
        </p:nvPicPr>
        <p:blipFill>
          <a:blip r:embed="rId1"/>
          <a:stretch/>
        </p:blipFill>
        <p:spPr>
          <a:xfrm>
            <a:off x="2438280" y="1600200"/>
            <a:ext cx="47023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tergate Impa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d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xon – cannot ever be prosecuted for cr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s distrust of government and politicians continue to de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y our judicial system works because no one is above the law, to include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washingtonpost.com/wp-dyn/content/article/2007/06/13/AR2007061301867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Woodward and Bernstein"/>
          <p:cNvPicPr/>
          <p:nvPr/>
        </p:nvPicPr>
        <p:blipFill>
          <a:blip r:embed="rId1"/>
          <a:stretch/>
        </p:blipFill>
        <p:spPr>
          <a:xfrm>
            <a:off x="1295280" y="1752480"/>
            <a:ext cx="6858000" cy="4872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33"/>
                </a:solidFill>
                <a:latin typeface="Times New Roman"/>
              </a:rPr>
              <a:t>Washington Post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reporters who followed the court case of the burglars and realized there may be a White House connection when one of the burglars reported being a retired CIA ag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rl Bernste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600200"/>
            <a:ext cx="3487680" cy="4495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2957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ob Woodw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76800" cy="4776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Bob Woodward on &quot;Meet The Press&quot;"/>
          <p:cNvPicPr/>
          <p:nvPr/>
        </p:nvPicPr>
        <p:blipFill>
          <a:blip r:embed="rId2"/>
          <a:stretch/>
        </p:blipFill>
        <p:spPr>
          <a:xfrm>
            <a:off x="4997520" y="1676520"/>
            <a:ext cx="34430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n Bradle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s as vice president to the Washington Post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revealing the Pentagon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703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rstein, Bradlee, &amp; Woodw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Carl Bernstein, Ben Bradlee, Bob Woodward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’s paranoia may have contributed to his participation in the burglary and cov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people were against him = “enemies list”- those considered threat to his presi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50" t="6251" r="0" b="6251"/>
          <a:stretch/>
        </p:blipFill>
        <p:spPr>
          <a:xfrm>
            <a:off x="4724280" y="2095560"/>
            <a:ext cx="44197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over-Up Begi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cCord, one of the burglars was an ex-CIA agent and member of C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glars paid from CRP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 orders cover-up; false testimony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Felt giving info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82920" y="2664000"/>
            <a:ext cx="4179960" cy="1509480"/>
            <a:chOff x="2482920" y="2664000"/>
            <a:chExt cx="4179960" cy="1509480"/>
          </a:xfrm>
        </p:grpSpPr>
        <p:sp>
          <p:nvSpPr>
            <p:cNvPr id="126" name=""/>
            <p:cNvSpPr/>
            <p:nvPr/>
          </p:nvSpPr>
          <p:spPr>
            <a:xfrm>
              <a:off x="2482920" y="2664000"/>
              <a:ext cx="4179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82920" y="2664000"/>
              <a:ext cx="3098880" cy="1509480"/>
              <a:chOff x="2482920" y="2664000"/>
              <a:chExt cx="3098880" cy="150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2482920" y="2664000"/>
                <a:ext cx="3098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82920" y="2664000"/>
                <a:ext cx="1525680" cy="15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jamesMcCord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2395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illiam Mark Fel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d “deep throat” by Bernstein and Wood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I Agent Whistle-bl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al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: Dec.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762120"/>
            <a:ext cx="2381400" cy="2638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Mark Felt - Deep Throat"/>
          <p:cNvPicPr/>
          <p:nvPr/>
        </p:nvPicPr>
        <p:blipFill>
          <a:blip r:embed="rId3"/>
          <a:stretch/>
        </p:blipFill>
        <p:spPr>
          <a:xfrm>
            <a:off x="3962520" y="3276720"/>
            <a:ext cx="2655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0-05-20T02:21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